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2249"/>
        <c:axId val="62856177"/>
      </c:barChart>
      <c:catAx>
        <c:axId val="8692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56177"/>
        <c:crosses val="autoZero"/>
        <c:auto val="1"/>
        <c:lblAlgn val="ctr"/>
        <c:lblOffset val="100"/>
        <c:noMultiLvlLbl val="0"/>
      </c:catAx>
      <c:valAx>
        <c:axId val="62856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2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A07-F7A1-4E5B-BF26-0A193CD1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B1A-0EEA-4D10-A6C7-6A3AFF74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592-FB3B-49BA-B4EB-5BC2624A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050-11A9-4229-8364-B56467ED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3A2-787A-468C-BD5D-2FE065E3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932-1971-4830-9B34-34E66CE0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67B-A312-4F7C-882F-8BB75222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004-AE21-47D0-BEF4-198FF436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20C-4885-4165-B69C-AAAD246D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AA7-F339-403F-ACAE-0DF54F79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10C-F6B2-4661-8DE4-2283AEA2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E08-23B8-445B-BA72-56E429C1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F3EA4-9A59-4E08-B51F-B166917C33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