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335985"/>
        <c:axId val="69545447"/>
      </c:barChart>
      <c:catAx>
        <c:axId val="623359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45447"/>
        <c:crosses val="autoZero"/>
        <c:auto val="1"/>
        <c:lblAlgn val="ctr"/>
        <c:lblOffset val="100"/>
        <c:noMultiLvlLbl val="0"/>
      </c:catAx>
      <c:valAx>
        <c:axId val="69545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359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BD0E-DBE9-428C-B098-8F02148C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3766-878A-4C77-BED5-DD7D3C48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FF2-A2F8-42DA-96B4-56C12C0C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7FF-2F1B-44F4-B98F-D3F4B57C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E500-3EA3-4736-AD8D-835C8495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101-E4AF-46FE-947F-F97EFF0A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537-E213-44F2-AB69-1CF6D8CE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3E4-600A-49AE-8106-8897E00E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3B8-2256-4E15-9BC7-B2610991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A53-CADE-48F4-89E0-758FDFB9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4F5-69BC-4221-8E7E-25C70738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EF84-CD90-4977-9709-4F7E1B6A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F8328-0BEA-4F45-90E2-62E19352FC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