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864"/>
        <c:axId val="94862799"/>
      </c:barChart>
      <c:catAx>
        <c:axId val="5483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62799"/>
        <c:crosses val="autoZero"/>
        <c:auto val="1"/>
        <c:lblAlgn val="ctr"/>
        <c:lblOffset val="100"/>
        <c:noMultiLvlLbl val="0"/>
      </c:catAx>
      <c:valAx>
        <c:axId val="94862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F28-5F9E-420A-ABA7-4D0D572B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813-5685-40F4-B8D9-9FCE3E65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14C-6F83-4A7D-89F6-0B1A066E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D4D-A83C-44A2-9311-164BB8F4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49E-FA60-4772-87B7-3BD3F19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1D2-5294-4810-9404-E8EDCC4C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846-AD5B-4BAF-BFC5-6005005C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BC1-B352-4A76-A6EE-94D4EF82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D3B-FD8A-4136-8AF9-97FCC39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8BB-A46B-4A26-93E5-5ACB06C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C22-6FEC-497B-BCD3-24B7FD4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A8A-6A18-4402-A35E-3AA5FA0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EA542-3788-4471-A873-794D6F7313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