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999"/>
        <c:axId val="51763407"/>
      </c:barChart>
      <c:catAx>
        <c:axId val="245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63407"/>
        <c:crosses val="autoZero"/>
        <c:auto val="1"/>
        <c:lblAlgn val="ctr"/>
        <c:lblOffset val="100"/>
        <c:noMultiLvlLbl val="0"/>
      </c:catAx>
      <c:valAx>
        <c:axId val="51763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E5A-F0EA-4BF5-A162-ECF55F9A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B25-2ECC-4AFB-AA09-4D3931B6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12E-258E-42FA-A903-9325E617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D20-4CE0-4895-B1F9-C6BE6911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BCF-D3C7-40DC-8946-396F627C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079-46D2-455F-AAEB-C4DD3F84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325-C530-4EA4-9BC5-32E54396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A79-9710-4ABC-93AB-5CAABE94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312-C910-4028-AC1F-60FAFC60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F56-742C-4529-BFBD-26D0B4E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2B6-7524-4041-870F-7013814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82B-DC06-4F89-B6D1-4E09746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7BD46-F9FF-4DCC-9074-5628A055DD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