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881445"/>
        <c:axId val="96015705"/>
      </c:barChart>
      <c:catAx>
        <c:axId val="838814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015705"/>
        <c:crosses val="autoZero"/>
        <c:auto val="1"/>
        <c:lblAlgn val="ctr"/>
        <c:lblOffset val="100"/>
        <c:noMultiLvlLbl val="0"/>
      </c:catAx>
      <c:valAx>
        <c:axId val="960157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814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91F7-690D-4A4F-99EB-8717009B7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A4A6-6CF9-447F-9A1F-861CE392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4794-BEC6-41D5-BA92-3244B00AD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7EA0-61F1-4624-92C2-0D6B00D5D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A096-1374-41F9-9B2E-8476DAFB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A6C2-09B7-44BB-84FB-B219CB6F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5D15-DBC7-4A70-82A6-FE8C3D22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CE13-C321-410D-A7B1-A1C6E5AF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A984-5AAE-41E0-B1AD-C755D40F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2413-3C31-46FC-BF61-2414E371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5EB2-E878-4E95-B602-C43CD464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BB13-D9A2-4927-8BAE-3BEA3CA6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420A0-5E83-4F5C-8355-C00DD15507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