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5093"/>
        <c:axId val="76523747"/>
      </c:barChart>
      <c:catAx>
        <c:axId val="8895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23747"/>
        <c:crosses val="autoZero"/>
        <c:auto val="1"/>
        <c:lblAlgn val="ctr"/>
        <c:lblOffset val="100"/>
        <c:noMultiLvlLbl val="0"/>
      </c:catAx>
      <c:valAx>
        <c:axId val="76523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5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BFF-CBCB-492F-9300-C61BB2A3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2FE-F5A2-41FC-98BE-0E14F2D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3B0-7A96-47A2-A451-8FF86F23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CDF-5886-4403-AD09-17E2C517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C8F-B7F1-4A06-89C6-3B01ABC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F91-0C34-461C-A05C-CA98D26B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0B8-6DA3-449B-A1FA-AEA04329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684-AD72-40D7-BEC4-48A4B87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175-8134-4CD4-8A2B-6F59F568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C17-4062-4CBF-B1D2-DF1AF89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DD2-9561-4646-AF98-96A8B74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A7C-5654-472B-A22F-8308B43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98EBB-D5C6-44D3-9C4E-94C5D427AD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