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921503"/>
        <c:axId val="90537925"/>
      </c:barChart>
      <c:catAx>
        <c:axId val="909215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537925"/>
        <c:crosses val="autoZero"/>
        <c:auto val="1"/>
        <c:lblAlgn val="ctr"/>
        <c:lblOffset val="100"/>
        <c:noMultiLvlLbl val="0"/>
      </c:catAx>
      <c:valAx>
        <c:axId val="905379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9215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E392-2570-4D11-AF1B-3C1A0F6A3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6344-01F5-4402-BA40-AB44D33D4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BAA7-44CE-4A96-B49F-F8035970B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5AC6-754A-4E56-A90C-8EC61E398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D598-5ECF-460B-AA3D-BDA03BD59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8413-A054-4A3D-B056-23D3AB3CF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FD62-1686-4789-B58A-5F36C1668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2A1C-9172-4606-B965-77BCB5A64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6BED-097B-45F2-B2E6-30EFEFAAD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DF69-8391-4EF5-B3BB-A83E5F384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F2DF-6220-4919-AED3-77809A0F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E19A-DC6F-4B3A-9951-C79B2799E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FEF196-622B-42DA-9A7B-F31E233F8CD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