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53042"/>
        <c:axId val="98031781"/>
      </c:barChart>
      <c:catAx>
        <c:axId val="93253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31781"/>
        <c:crosses val="autoZero"/>
        <c:auto val="1"/>
        <c:lblAlgn val="ctr"/>
        <c:lblOffset val="100"/>
        <c:noMultiLvlLbl val="0"/>
      </c:catAx>
      <c:valAx>
        <c:axId val="98031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53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78A-03A1-456F-8EBC-2A534120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67C-A3F5-4C91-8B15-25C673F1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390-03AC-49FD-A1A7-5EAD6AF1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42C-CDB6-4E09-A7C9-0C9C338B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FCC0-7AFF-4833-8455-91BA8003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A19-FE46-48C6-8783-27C83B86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B79-A58E-49FF-970E-C6BBDF80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20D-DB82-473B-A8A0-53D735CB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804-3AB5-41C7-9082-28048757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5BA-CF1C-4E01-99A2-E29F6AC4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D28-0A20-473A-A1A4-7607F250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E37-AA01-4A82-831D-70FA8359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27080-584B-4633-9B92-2E63592B4B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