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129166"/>
        <c:axId val="77891804"/>
      </c:barChart>
      <c:catAx>
        <c:axId val="94129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91804"/>
        <c:crosses val="autoZero"/>
        <c:auto val="1"/>
        <c:lblAlgn val="ctr"/>
        <c:lblOffset val="100"/>
        <c:noMultiLvlLbl val="0"/>
      </c:catAx>
      <c:valAx>
        <c:axId val="77891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29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AAE-0600-4824-A3BE-6C492C50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D1D-05AB-4422-8660-F69BB9B8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4B1-363C-4E95-B8AF-9E3DFE6F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32D-6BDA-4A0B-9D9F-A48D9665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F5D-BF49-447B-B7CC-22B1A79C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39B-9755-4292-834E-1D32BB2A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DD3-5552-4640-A4B0-74F4CB8B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AE6-B35F-40AE-AC59-5E9B566D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2AB-8DBB-4943-AD4D-FE1298E7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345-2F5C-4FC5-9158-66A67D93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BD7-DE1C-4135-9657-45C47C5D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52E-3FB5-46A1-A96D-3FD8B427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DD0BD-8FDB-4124-87E7-EFD751BCF3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