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80902"/>
        <c:axId val="22998944"/>
      </c:barChart>
      <c:catAx>
        <c:axId val="10480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98944"/>
        <c:crosses val="autoZero"/>
        <c:auto val="1"/>
        <c:lblAlgn val="ctr"/>
        <c:lblOffset val="100"/>
        <c:noMultiLvlLbl val="0"/>
      </c:catAx>
      <c:valAx>
        <c:axId val="22998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80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B59-BA78-4504-B475-94341EAE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F25-5655-43CE-91EC-21891C60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C10-9AB6-4E25-B85F-373AF1F5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8DB-35CF-4319-8D2F-C1CD6522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3CA-22A1-4AE5-866D-BA391CA1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849-2E7A-4684-B3C2-05545495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E23-C8D1-4D1B-8A2B-E681407F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81F-2178-4777-B730-F5204689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695-5933-4DBC-88E4-495FF91C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661-4C01-4ACF-81DC-7063C5B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684-4C80-43F6-9230-E8FD3051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8AE-0437-4691-A325-302A3DFB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95211-44B6-49B4-B867-3951AFCB76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