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80905"/>
        <c:axId val="56391943"/>
      </c:barChart>
      <c:catAx>
        <c:axId val="743809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91943"/>
        <c:crosses val="autoZero"/>
        <c:auto val="1"/>
        <c:lblAlgn val="ctr"/>
        <c:lblOffset val="100"/>
        <c:noMultiLvlLbl val="0"/>
      </c:catAx>
      <c:valAx>
        <c:axId val="563919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809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4A8-97EE-432F-9B55-53CF4D99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8620-7741-47B8-9CED-1A00141B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A4F-3D5C-429C-82B4-8221F124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57A-1F70-4608-9A87-7F8CF928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848-7729-4387-AF84-5E5EA94A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C674-A0B0-4FC2-B1D9-1FC1C232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111-49F0-4362-AC9C-B13C4591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07B7-DB4E-440F-B681-19085DEE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159-DF8E-4A09-BA60-5B740B2B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32E-0809-4171-82D7-6F6E8855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C83-AD05-4B2A-94F0-EB88C0D7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A2D-7765-45DC-AAF2-FCBAFAC7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33EE0-0014-4F3E-AC73-369CF36240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