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67084"/>
        <c:axId val="89087963"/>
      </c:barChart>
      <c:catAx>
        <c:axId val="54567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7963"/>
        <c:crosses val="autoZero"/>
        <c:auto val="1"/>
        <c:lblAlgn val="ctr"/>
        <c:lblOffset val="100"/>
        <c:noMultiLvlLbl val="0"/>
      </c:catAx>
      <c:valAx>
        <c:axId val="89087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7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74C-B908-4EF3-B956-35B72F05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074-F607-497C-88D9-67D37BF9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82D-93AB-457C-93FC-11C9D010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51E-84C0-41FE-8702-CA53F575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A14-21CA-4084-90E5-1E5026E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B16-8813-4CDA-B900-A591A22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A07-1BDD-49F6-86D1-4DC77D1A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D61-C5BF-40F6-8325-DD7163B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570-A184-4AA1-BE99-C768097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5A3-0C8D-4183-AD61-28FD58E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3F5-C932-4A04-A7AD-FE4574C9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D79-BB74-4D89-A69C-2FEE3E2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F591-BD50-4BC0-A2C9-09F987E559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