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70373"/>
        <c:axId val="94184834"/>
      </c:barChart>
      <c:catAx>
        <c:axId val="24570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84834"/>
        <c:crosses val="autoZero"/>
        <c:auto val="1"/>
        <c:lblAlgn val="ctr"/>
        <c:lblOffset val="100"/>
        <c:noMultiLvlLbl val="0"/>
      </c:catAx>
      <c:valAx>
        <c:axId val="94184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70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43A-233E-4F97-B856-80974DA1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1CF-A36C-4DEC-9147-6E546990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40F-327D-4090-A675-562AB60D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347-808E-4699-BCFF-798E5F3B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418-3E3B-443B-B476-AD94681A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B08-64FD-4C26-9156-AB8DF067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E0D-46BF-474E-8A1D-17AAEDBF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293-CD64-4CA7-99C8-94B009EB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39B-2525-480C-A56F-1F84E4B7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344-DCDF-4F27-9375-6312B9F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C61-1F6E-4CF6-AFB5-5EBF903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33F-A52F-4BFA-A6FA-9802EF0B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7F3F9-221E-4F1E-A1F6-8B9C9A06DE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