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100154"/>
        <c:axId val="5836778"/>
      </c:barChart>
      <c:catAx>
        <c:axId val="121001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36778"/>
        <c:crosses val="autoZero"/>
        <c:auto val="1"/>
        <c:lblAlgn val="ctr"/>
        <c:lblOffset val="100"/>
        <c:noMultiLvlLbl val="0"/>
      </c:catAx>
      <c:valAx>
        <c:axId val="58367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1001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D6C4-0FE7-4377-94A1-D35A3ABDF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2714-C166-4543-BD0F-80C40541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F3A2-2060-46AC-8907-D9F247147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B243-CD35-4312-BF92-651A64E36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A146-D5E1-40C2-B6B1-FF69F7FF6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CEB9-990C-481E-B5B9-59FEEA236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0828-D16E-4B14-B074-3C61362AF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6857-573D-4F45-B157-0CD836D8B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274E-1B1B-484F-BBE1-B7FF0D755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36DB-26A0-4D26-8E72-E90C11C3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0BF1-CC8A-4685-AF53-6DB997E6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83E6-A6E7-4742-82B9-EDC63623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5F925E-13BC-401A-BDCB-776C66B5057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