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65769"/>
        <c:axId val="29500649"/>
      </c:barChart>
      <c:catAx>
        <c:axId val="25965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00649"/>
        <c:crosses val="autoZero"/>
        <c:auto val="1"/>
        <c:lblAlgn val="ctr"/>
        <c:lblOffset val="100"/>
        <c:noMultiLvlLbl val="0"/>
      </c:catAx>
      <c:valAx>
        <c:axId val="29500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65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C9C-AB2D-4909-AB34-12AAB69D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846-6B0E-4BC2-9165-14DA9C62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B56-70F3-42F0-9AA1-852E6B13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0B0-F713-4404-B874-125DC1E9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C11-8870-4452-83D9-90A77112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949-6F19-4F8F-AE40-93C30683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20B-2738-47E7-A61A-3C97C2C7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E30-5F80-44B3-BEE1-720A4823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D24-F76D-407C-B193-D9FBFD8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464-6D4A-4A26-9260-435EB8BF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1AC-DA17-42CF-B7DD-7F1AADD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D8A-009D-469D-BCB7-D4C6BCF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3AB4D-73F0-466E-93A2-FD1B777087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