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71402"/>
        <c:axId val="43325029"/>
      </c:barChart>
      <c:catAx>
        <c:axId val="54671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5029"/>
        <c:crosses val="autoZero"/>
        <c:auto val="1"/>
        <c:lblAlgn val="ctr"/>
        <c:lblOffset val="100"/>
        <c:noMultiLvlLbl val="0"/>
      </c:catAx>
      <c:valAx>
        <c:axId val="43325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71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91F-63B2-4801-9202-20518B5E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0F3-A203-48B3-9DD0-F5C77110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3A5-D6C3-4D6D-A47D-36F6324F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2B4-F57C-4A49-8C32-EE83EAD0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8B4-1FEC-4C4D-BDDF-2D08E5B0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3C1-EDF9-4120-9B10-BA8E792A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B03-8FBE-4EEC-BA26-EA94AF03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A1D-7562-4DB4-B43D-DA44DCF1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850-82FD-4AA4-BCBE-83178C41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96E-677F-4BA8-AF43-08FBCD37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D68-1A8B-4FA5-879F-0BAB8DA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240-4547-467C-BB3D-8339BA9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CD50F-895E-44DA-A320-8225920F3B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